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63E-397B-409D-A92D-F27D9EBE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B9-EE82-45A1-9A34-62A6B745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9DD-0619-4C21-A80E-90CFE9AE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B5D-0A7E-4006-8E9C-297878F2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568-1025-4F94-BAB4-569B2BBF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CCA-5118-4E93-AD2F-BFCBB6B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0AB-9332-47F4-8195-21107EFB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772-A081-4373-A496-F008C872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239-FABE-4AD7-9E84-29B2CD7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712-D979-425F-B6D6-CDE3B83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397-F2DD-457A-B022-9FEDD15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4C5-62FE-4D7F-80CE-896E423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5E0-87B3-4548-9186-344D8DF1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ff"/>
                </a:solidFill>
                <a:latin typeface="Arial"/>
              </a:rPr>
              <a:t>Greek Gover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a k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ity-states were ruled by a king. This type of government is called a monarchy. The city-state of Corinth is an example; Corinth was ruled by a king.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a small grou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ity-states were ruled by a small group of people. This type of government is called an oligarchy. The city-state of Sparta was ruled by a small group of retired and highly respected warriors.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man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ity-state, Athens, experimented with democracy, or rule by many. For a while, every citizen in Athens could vote on laws and changes in the laws. This form of government continued until Athens was conquered by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, aristocracy, tyranny, oligarchy &amp;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krat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eople power ( no clear idea who people w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les of Marathon and Salamis. That victory in turn encouraged the poorest Athenians to demand a greater say in the running of their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 BCE Pericles started the move to democracy. Based on direct democracy. (all people vote on all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itizens had to take an active part in government (rule by many) if called on to do 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do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were free men of double descent  (born in Athens, could not be born elsew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, children, and slaves were not citizens, and thus could not participate or vot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, there was a drawing. 501 names were drawn from a pool of all the citizens of Ath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at year, they were responsible for making new laws and for changing old laws as they saw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be voted on by the people before offi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could be ostracized for 10 yrs. had to have 6,000 v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democracy important in your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an example of democracy in use. And printout the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01:50Z</dcterms:created>
  <dc:creator>jobert</dc:creator>
  <dc:description/>
  <dc:language>en-US</dc:language>
  <cp:lastModifiedBy>jobert</cp:lastModifiedBy>
  <dcterms:modified xsi:type="dcterms:W3CDTF">2014-04-01T16:01:50Z</dcterms:modified>
  <cp:revision>1</cp:revision>
  <dc:subject/>
  <dc:title>Greek Government </dc:title>
</cp:coreProperties>
</file>